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7.pct" ContentType="image/x-pict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16EE-AD88-4DEF-B415-709BEFD07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CEFCC-3A5B-47B5-B24C-B36A40662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69E-240C-4BF8-9EC1-B5A8FAC319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FB8CB-6940-400F-8258-D9B8C3331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CC7FC-DA18-4400-BD81-01EA082FA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41C83-544A-4269-8484-2CF6C2225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0AC9D-3457-4461-B330-6681038D43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B945C-1436-4A42-AE8B-FEF1C73A6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5398-195B-44C4-9698-499050DDA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2678F-9A4E-455E-9166-1C6F682A62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D6392-F550-457D-AB5C-B8D675A5C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91A8-0E93-4767-B7A3-A8F06C76C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9AADF-7427-4819-A478-77535D55E8C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ct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ccsso.org/projects/Surveys_of_Enacted_Curriculum/" TargetMode="External"/><Relationship Id="rId3" Type="http://schemas.openxmlformats.org/officeDocument/2006/relationships/hyperlink" Target="http://www.secsupport.org/" TargetMode="External"/><Relationship Id="rId4" Type="http://schemas.openxmlformats.org/officeDocument/2006/relationships/hyperlink" Target="http://www.seconline.org/" TargetMode="External"/><Relationship Id="rId5" Type="http://schemas.openxmlformats.org/officeDocument/2006/relationships/image" Target="../media/image8.png"/><Relationship Id="rId6" Type="http://schemas.openxmlformats.org/officeDocument/2006/relationships/image" Target="../media/image8.png"/><Relationship Id="rId7" Type="http://schemas.openxmlformats.org/officeDocument/2006/relationships/image" Target="../media/image8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What if…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295280" y="1600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use data to guide professional develop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have consistency across grade levels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know how well aligned your state standards were to the state assessment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compare how you teach content compared to how others across the nation teach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 could use anonymous teacher data to start a powerful school discussion about what the teacher needs ar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2000"/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2000"/>
                                        <p:tgtEl>
                                          <p:spTgt spid="4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4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46040" y="1371600"/>
            <a:ext cx="83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ep 3: Repeat steps 1 &amp; 2 for each content area presen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1145520" y="264960"/>
            <a:ext cx="72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orting Instructional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735920" y="2408400"/>
            <a:ext cx="524808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1: Report time spent on topic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ep 2: Report expectations for student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145520" y="264960"/>
            <a:ext cx="72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orting Instructional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54320" y="1511280"/>
            <a:ext cx="8146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 use of lesson plans, grade books, text, etc. to re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ic Coverage organized and reported by Content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umber Sense, Properties &amp; Relationsh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 Analysis, Statistics, Prob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gebraic Conce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eometric Conce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structional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gnitive Demand reported for each topic covered (e.g. ma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mor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form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monstrate Understanding of Mathematical Id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jecture, Generalize, Pr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lve non-routine problems, make conn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438120" y="1971720"/>
          <a:ext cx="8267760" cy="4276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38120" y="1971720"/>
                    <a:ext cx="8267760" cy="427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5520" y="264960"/>
            <a:ext cx="72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orting Instructional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515680" y="1295280"/>
            <a:ext cx="411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structions for paper ver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8" name=""/>
          <p:cNvGraphicFramePr/>
          <p:nvPr/>
        </p:nvGraphicFramePr>
        <p:xfrm>
          <a:off x="133200" y="1619280"/>
          <a:ext cx="8877600" cy="46292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200" y="1619280"/>
                    <a:ext cx="8877600" cy="462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0" name="" descr=""/>
          <p:cNvPicPr/>
          <p:nvPr/>
        </p:nvPicPr>
        <p:blipFill>
          <a:blip r:embed="rId3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81" name=""/>
          <p:cNvSpPr/>
          <p:nvPr/>
        </p:nvSpPr>
        <p:spPr>
          <a:xfrm>
            <a:off x="2552760" y="152280"/>
            <a:ext cx="3620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ntent Map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252360" y="1295280"/>
          <a:ext cx="8639280" cy="5257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2360" y="1295280"/>
                    <a:ext cx="8639280" cy="5257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1068480" y="76320"/>
            <a:ext cx="75006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ide comparisons of standards, assessment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instruction and learn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1067040" y="318960"/>
            <a:ext cx="739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For additional information and resources, visit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>
            <a:hlinkClick r:id="rId2"/>
          </p:cNvPr>
          <p:cNvSpPr/>
          <p:nvPr/>
        </p:nvSpPr>
        <p:spPr>
          <a:xfrm>
            <a:off x="3124080" y="1905120"/>
            <a:ext cx="403884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33cc"/>
                </a:solidFill>
                <a:uFillTx/>
                <a:latin typeface="Arial"/>
              </a:rPr>
              <a:t>SEC Collaborativ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3333cc"/>
                </a:solidFill>
                <a:uFillTx/>
                <a:latin typeface="Arial"/>
              </a:rPr>
              <a:t>(Council of Chief State School Offic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>
            <a:hlinkClick r:id="rId3"/>
          </p:cNvPr>
          <p:cNvSpPr/>
          <p:nvPr/>
        </p:nvSpPr>
        <p:spPr>
          <a:xfrm>
            <a:off x="3114720" y="2986200"/>
            <a:ext cx="266472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Arial"/>
              </a:rPr>
              <a:t>SEC Suppo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ff0000"/>
                </a:solidFill>
                <a:uFillTx/>
                <a:latin typeface="Arial"/>
              </a:rPr>
              <a:t>(Learning Point Associat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>
            <a:hlinkClick r:id="rId4"/>
          </p:cNvPr>
          <p:cNvSpPr/>
          <p:nvPr/>
        </p:nvSpPr>
        <p:spPr>
          <a:xfrm>
            <a:off x="3128760" y="4191120"/>
            <a:ext cx="408528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808000"/>
                </a:solidFill>
                <a:uFillTx/>
                <a:latin typeface="Arial"/>
              </a:rPr>
              <a:t>SEC Onli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808000"/>
                </a:solidFill>
                <a:uFillTx/>
                <a:latin typeface="Arial"/>
              </a:rPr>
              <a:t>(Wisconsin Center for Education Research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1" name="tricolorSEClogo" descr=""/>
          <p:cNvPicPr/>
          <p:nvPr/>
        </p:nvPicPr>
        <p:blipFill>
          <a:blip r:embed="rId5"/>
          <a:stretch/>
        </p:blipFill>
        <p:spPr>
          <a:xfrm>
            <a:off x="2316240" y="2057400"/>
            <a:ext cx="635040" cy="566640"/>
          </a:xfrm>
          <a:prstGeom prst="rect">
            <a:avLst/>
          </a:prstGeom>
          <a:ln w="0">
            <a:noFill/>
          </a:ln>
        </p:spPr>
      </p:pic>
      <p:pic>
        <p:nvPicPr>
          <p:cNvPr id="92" name="tricolorSEClogo" descr=""/>
          <p:cNvPicPr/>
          <p:nvPr/>
        </p:nvPicPr>
        <p:blipFill>
          <a:blip r:embed="rId6"/>
          <a:stretch/>
        </p:blipFill>
        <p:spPr>
          <a:xfrm>
            <a:off x="2316240" y="3124080"/>
            <a:ext cx="635040" cy="567000"/>
          </a:xfrm>
          <a:prstGeom prst="rect">
            <a:avLst/>
          </a:prstGeom>
          <a:ln w="0">
            <a:noFill/>
          </a:ln>
        </p:spPr>
      </p:pic>
      <p:pic>
        <p:nvPicPr>
          <p:cNvPr id="93" name="tricolorSEClogo" descr=""/>
          <p:cNvPicPr/>
          <p:nvPr/>
        </p:nvPicPr>
        <p:blipFill>
          <a:blip r:embed="rId7"/>
          <a:stretch/>
        </p:blipFill>
        <p:spPr>
          <a:xfrm>
            <a:off x="2316240" y="4343400"/>
            <a:ext cx="63504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1143000" y="3047760"/>
            <a:ext cx="64008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glish Language Arts Reading, Mathematics, and Scien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209680" y="76320"/>
            <a:ext cx="48006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Introducing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09480" y="1600200"/>
            <a:ext cx="777240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gradFill rotWithShape="0">
                  <a:gsLst>
                    <a:gs pos="0">
                      <a:srgbClr val="000000"/>
                    </a:gs>
                    <a:gs pos="50000">
                      <a:srgbClr val="ffbf00"/>
                    </a:gs>
                    <a:gs pos="100000">
                      <a:srgbClr val="000000"/>
                    </a:gs>
                  </a:gsLst>
                  <a:lin ang="5400000"/>
                </a:grad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Surveys of the Enacted Curriculum</a:t>
            </a:r>
            <a:endParaRPr b="0" lang="en-US" sz="2400" spc="1" strike="noStrike">
              <a:ln w="0">
                <a:noFill/>
              </a:ln>
              <a:gradFill rotWithShape="0">
                <a:gsLst>
                  <a:gs pos="0">
                    <a:srgbClr val="000000"/>
                  </a:gs>
                  <a:gs pos="50000">
                    <a:srgbClr val="ffbf00"/>
                  </a:gs>
                  <a:gs pos="100000">
                    <a:srgbClr val="000000"/>
                  </a:gs>
                </a:gsLst>
                <a:lin ang="5400000"/>
              </a:grad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991080" y="152280"/>
            <a:ext cx="7107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Times New Roman"/>
              </a:rPr>
              <a:t>Collaborating Organization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76212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teacher survey tool…</a:t>
            </a: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762120" y="167652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s data on what content is taught and how it is tau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duces reports indicating the degree of alignment between the taught (enacted) curriculum and state assessments or standar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llects data on teacher beliefs, readiness to teach the content and readiness to instruct special groups of student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rovides a rich source of information to support teachers analysis of student learning challenges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914400" y="763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SEC can help your school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ign curriculum, instruction, and assessment including vertical alig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e instruction within and across grade levels,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etermine professional development nee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teacher planning and development on instructional practice and its effects on student performan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cus coaching and mentoring activity around content and pract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>
            <a:off x="838440" y="166680"/>
            <a:ext cx="8069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Online Survey Administration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/>
          </p:nvPr>
        </p:nvSpPr>
        <p:spPr>
          <a:xfrm>
            <a:off x="762120" y="198108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roximately 60-90 minutes to compe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y be completed in multiple sitting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 is saved as each section is comple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pic>
        <p:nvPicPr>
          <p:cNvPr id="61" name="mthInputSample" descr=""/>
          <p:cNvPicPr/>
          <p:nvPr/>
        </p:nvPicPr>
        <p:blipFill>
          <a:blip r:embed="rId2"/>
          <a:stretch/>
        </p:blipFill>
        <p:spPr>
          <a:xfrm>
            <a:off x="685800" y="1523880"/>
            <a:ext cx="7962840" cy="519912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1064880" y="380880"/>
            <a:ext cx="7287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our data is saved each time you click on a Submit butt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" descr=""/>
          <p:cNvPicPr/>
          <p:nvPr/>
        </p:nvPicPr>
        <p:blipFill>
          <a:blip r:embed="rId1"/>
          <a:stretch/>
        </p:blipFill>
        <p:spPr>
          <a:xfrm>
            <a:off x="0" y="38160"/>
            <a:ext cx="9144000" cy="1333440"/>
          </a:xfrm>
          <a:prstGeom prst="rect">
            <a:avLst/>
          </a:prstGeom>
          <a:ln w="0">
            <a:noFill/>
          </a:ln>
        </p:spPr>
      </p:pic>
      <p:sp>
        <p:nvSpPr>
          <p:cNvPr id="64" name=""/>
          <p:cNvSpPr/>
          <p:nvPr/>
        </p:nvSpPr>
        <p:spPr>
          <a:xfrm>
            <a:off x="1145520" y="264960"/>
            <a:ext cx="7206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imes New Roman"/>
              </a:rPr>
              <a:t>Reporting Instructional Content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54320" y="1511280"/>
            <a:ext cx="8146440" cy="51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ncourage use of lesson plans, grade books, text, etc. to recal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opic Coverage organized and reported by Content Area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Number Sense, Properties &amp; Relationship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asurement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ata Analysis, Statistics, Probabil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gebraic Conce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Geometric Concept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Instructional Technolog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ognitive Demand reported for each topic covered (e.g. math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Memoriz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Perform Procedure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emonstrate Understanding of Mathematical Idea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njecture, Generalize, Prove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Solve non-routine problems, make connection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2-28T00:27:19Z</dcterms:created>
  <dc:creator>Smithson</dc:creator>
  <dc:description/>
  <dc:language>en-US</dc:language>
  <cp:lastModifiedBy>Kari Augustine</cp:lastModifiedBy>
  <dcterms:modified xsi:type="dcterms:W3CDTF">2008-01-10T05:10:12Z</dcterms:modified>
  <cp:revision>15</cp:revision>
  <dc:subject/>
  <dc:title>PowerPoint Presentation</dc:title>
</cp:coreProperties>
</file>